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21F00-B7F0-4D61-AD45-7FAD3DF00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FAEE2-10FF-4804-B30B-A3B59DA5B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5F049-1703-4B0F-8F61-22E614790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180B5-E438-46C5-AECB-C839644B8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51E2C-61EC-4016-9AA0-BE2AC8618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272F1-BFC2-4EA0-9B0C-8FAF65773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252A3-82B9-47EC-B0DE-7498B870A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DBE8A-01C1-492A-BB71-6F8A1E7B8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C0F5C-8413-4D81-919F-4D15A8D4F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B082F-9093-410C-B9EB-8E97B56A7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85C91-EDF8-423F-BF78-2A704C151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CAB9F-7398-4157-B192-0A666775D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213B9-5958-4C9E-A4B6-99E50EE729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~PP3955.WAV" TargetMode="External"/><Relationship Id="rId2" Type="http://schemas.microsoft.com/office/2007/relationships/media" Target="file:///tmp/home/.config/libreoffice/4/user/gallery/~PP3955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file:///tmp/home/.config/libreoffice/4/user/gallery/~PP1437.WAV" TargetMode="External"/><Relationship Id="rId3" Type="http://schemas.microsoft.com/office/2007/relationships/media" Target="file:///tmp/home/.config/libreoffice/4/user/gallery/~PP1437.WAV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file:///tmp/home/.config/libreoffice/4/user/gallery/~PP638.WAV" TargetMode="External"/><Relationship Id="rId3" Type="http://schemas.microsoft.com/office/2007/relationships/media" Target="file:///tmp/home/.config/libreoffice/4/user/gallery/~PP638.WAV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file:///tmp/home/.config/libreoffice/4/user/gallery/~PP698.WAV" TargetMode="External"/><Relationship Id="rId3" Type="http://schemas.microsoft.com/office/2007/relationships/media" Target="file:///tmp/home/.config/libreoffice/4/user/gallery/~PP698.WAV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file:///tmp/home/.config/libreoffice/4/user/gallery/~PP1211.WAV" TargetMode="External"/><Relationship Id="rId3" Type="http://schemas.microsoft.com/office/2007/relationships/media" Target="file:///tmp/home/.config/libreoffice/4/user/gallery/~PP1211.WAV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file:///tmp/home/.config/libreoffice/4/user/gallery/~PP912.WAV" TargetMode="External"/><Relationship Id="rId3" Type="http://schemas.microsoft.com/office/2007/relationships/media" Target="file:///tmp/home/.config/libreoffice/4/user/gallery/~PP912.WAV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file:///tmp/home/.config/libreoffice/4/user/gallery/~PP50.WAV" TargetMode="External"/><Relationship Id="rId3" Type="http://schemas.microsoft.com/office/2007/relationships/media" Target="file:///tmp/home/.config/libreoffice/4/user/gallery/~PP50.WAV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file:///tmp/home/.config/libreoffice/4/user/gallery/~PP3515.WAV" TargetMode="External"/><Relationship Id="rId3" Type="http://schemas.microsoft.com/office/2007/relationships/media" Target="file:///tmp/home/.config/libreoffice/4/user/gallery/~PP3515.WAV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file:///tmp/home/.config/libreoffice/4/user/gallery/~PP3403.WAV" TargetMode="External"/><Relationship Id="rId3" Type="http://schemas.microsoft.com/office/2007/relationships/media" Target="file:///tmp/home/.config/libreoffice/4/user/gallery/~PP3403.WAV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file:///tmp/home/.config/libreoffice/4/user/gallery/~PP3073.WAV" TargetMode="External"/><Relationship Id="rId3" Type="http://schemas.microsoft.com/office/2007/relationships/media" Target="file:///tmp/home/.config/libreoffice/4/user/gallery/~PP3073.WAV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file:///tmp/home/.config/libreoffice/4/user/gallery/~PP2258.WAV" TargetMode="External"/><Relationship Id="rId3" Type="http://schemas.microsoft.com/office/2007/relationships/media" Target="file:///tmp/home/.config/libreoffice/4/user/gallery/~PP2258.WAV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file:///tmp/home/.config/libreoffice/4/user/gallery/~PP1428.WAV" TargetMode="External"/><Relationship Id="rId3" Type="http://schemas.microsoft.com/office/2007/relationships/media" Target="file:///tmp/home/.config/libreoffice/4/user/gallery/~PP1428.WAV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file:///tmp/home/.config/libreoffice/4/user/gallery/~PP894.WAV" TargetMode="External"/><Relationship Id="rId3" Type="http://schemas.microsoft.com/office/2007/relationships/media" Target="file:///tmp/home/.config/libreoffice/4/user/gallery/~PP894.WAV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file:///tmp/home/.config/libreoffice/4/user/gallery/~PP3738.WAV" TargetMode="External"/><Relationship Id="rId3" Type="http://schemas.microsoft.com/office/2007/relationships/media" Target="file:///tmp/home/.config/libreoffice/4/user/gallery/~PP3738.WAV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file:///tmp/home/.config/libreoffice/4/user/gallery/~PP2533.WAV" TargetMode="External"/><Relationship Id="rId3" Type="http://schemas.microsoft.com/office/2007/relationships/media" Target="file:///tmp/home/.config/libreoffice/4/user/gallery/~PP2533.WAV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ine Feri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lga (Emily) Marsd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3"/>
                </p:tgtEl>
              </p:cMediaNode>
            </p:audio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ch war am der se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752480" y="1295280"/>
            <a:ext cx="5715000" cy="42865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1" fill="hold"/>
                                        <p:tgtEl>
                                          <p:spTgt spid="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70"/>
                </p:tgtEl>
              </p:cMediaNode>
            </p:audio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ch bin in See geschwomme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219320" y="1523880"/>
            <a:ext cx="6553080" cy="42544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1" fill="hold"/>
                                        <p:tgtEl>
                                          <p:spTgt spid="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73"/>
                </p:tgtEl>
              </p:cMediaNode>
            </p:audio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ch habe ein Apfel gegesse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523880" y="1676520"/>
            <a:ext cx="6019920" cy="42955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1" fill="hold"/>
                                        <p:tgtEl>
                                          <p:spTgt spid="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76"/>
                </p:tgtEl>
              </p:cMediaNode>
            </p:audio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ch bin in eine Taxi gefahr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066680" y="1371600"/>
            <a:ext cx="6553440" cy="4917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" dur="1" fill="hold"/>
                                        <p:tgtEl>
                                          <p:spTgt spid="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79"/>
                </p:tgtEl>
              </p:cMediaNode>
            </p:audio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icago hat mir gut gefalle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981080" y="1619280"/>
            <a:ext cx="4400640" cy="440064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" dur="1" fill="hold"/>
                                        <p:tgtEl>
                                          <p:spTgt spid="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82"/>
                </p:tgtEl>
              </p:cMediaNode>
            </p:audio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u sollst Chicago besuche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990720" y="1981080"/>
            <a:ext cx="6781680" cy="37656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" dur="1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85"/>
                </p:tgtEl>
              </p:cMediaNode>
            </p:audio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ch war in Chicago</a:t>
            </a: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048120" y="2214720"/>
            <a:ext cx="3203280" cy="24033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6"/>
                </p:tgtEl>
              </p:cMediaNode>
            </p:audio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ch wohne in eine hot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162920" cy="44960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9"/>
                </p:tgtEl>
              </p:cMediaNode>
            </p:audio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ch war am Michigan Avenu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371600" y="2104920"/>
            <a:ext cx="6019920" cy="40323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1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52"/>
                </p:tgtEl>
              </p:cMediaNode>
            </p:audio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ch habe Brot gekauf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193840" y="1295280"/>
            <a:ext cx="4314960" cy="46483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1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55"/>
                </p:tgtEl>
              </p:cMediaNode>
            </p:audio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ch spiele Fussball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352520" y="1285920"/>
            <a:ext cx="6438960" cy="42861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1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58"/>
                </p:tgtEl>
              </p:cMediaNode>
            </p:audio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ch habe Klamotten Gekauf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1" fill="hold"/>
                                        <p:tgtEl>
                                          <p:spTgt spid="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61"/>
                </p:tgtEl>
              </p:cMediaNode>
            </p:audio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ch schlaufe ger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295360" y="1442880"/>
            <a:ext cx="4553280" cy="39722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1" fill="hold"/>
                                        <p:tgtEl>
                                          <p:spTgt spid="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64"/>
                </p:tgtEl>
              </p:cMediaNode>
            </p:audio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ch fotografiert                              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714680" y="1619280"/>
            <a:ext cx="5715000" cy="36194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1" fill="hold"/>
                                        <p:tgtEl>
                                          <p:spTgt spid="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67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4T18:10:22Z</dcterms:created>
  <dc:creator>CUSD220</dc:creator>
  <dc:description/>
  <dc:language>en-US</dc:language>
  <cp:lastModifiedBy>CUSD220</cp:lastModifiedBy>
  <dcterms:modified xsi:type="dcterms:W3CDTF">2011-11-15T18:31:45Z</dcterms:modified>
  <cp:revision>3</cp:revision>
  <dc:subject/>
  <dc:title>Meine Ferien</dc:title>
</cp:coreProperties>
</file>